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png" ContentType="image/png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607DF-D5C6-4F4B-987E-991FDAC606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extual picture: Livelihood story provides added value to all other information being brought to the forum (Analytical tab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dictive scenarios can be run using FEG spreadsheets etc……..avoiding….. HINDCASTS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C112F-0813-4553-B9BD-1F2960E61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40D6D-C4B7-4B58-BCD3-7F4A3071A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54D80-DE42-46AB-A46B-8E031133C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7B91E-8E52-4071-95BE-CACBB2B0B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E66EC-E043-474A-8993-9E0F62DDE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F50E6-7A11-42A1-AB19-F31D3FBF3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D75F1-F07D-47E3-AB5F-8E1F034EC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0F96E-D511-436D-BE70-C4EE842AB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345B0-86A9-4263-910A-C79E544CF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EC50F-2D90-40D1-8412-A59077A75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8C075-07BB-499E-9F2F-4FD65405F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EB435-F654-4D47-8139-6FC343FD7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34611-D9E9-46A9-8573-A7A6639A3D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8381880" cy="55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ontinental seminar on food security - Africa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8.45 session 1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arch 2007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role of information in improving responses to food insecurity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 slides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zz Sharp SC-U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666880" y="-3665880"/>
            <a:ext cx="7632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0" y="228240"/>
            <a:ext cx="914400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velihood asset loss and recovery  (H, S, N, F, 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838080" y="990720"/>
            <a:ext cx="7467480" cy="4723920"/>
            <a:chOff x="838080" y="990720"/>
            <a:chExt cx="7467480" cy="4723920"/>
          </a:xfrm>
        </p:grpSpPr>
        <p:grpSp>
          <p:nvGrpSpPr>
            <p:cNvPr id="52" name=""/>
            <p:cNvGrpSpPr/>
            <p:nvPr/>
          </p:nvGrpSpPr>
          <p:grpSpPr>
            <a:xfrm>
              <a:off x="2524320" y="1316160"/>
              <a:ext cx="4095000" cy="3909240"/>
              <a:chOff x="2524320" y="1316160"/>
              <a:chExt cx="4095000" cy="3909240"/>
            </a:xfrm>
          </p:grpSpPr>
          <p:sp>
            <p:nvSpPr>
              <p:cNvPr id="53" name=""/>
              <p:cNvSpPr/>
              <p:nvPr/>
            </p:nvSpPr>
            <p:spPr>
              <a:xfrm>
                <a:off x="4572000" y="3270960"/>
                <a:ext cx="2047320" cy="1954440"/>
              </a:xfrm>
              <a:custGeom>
                <a:avLst/>
                <a:gdLst/>
                <a:ahLst/>
                <a:rect l="l" t="t" r="r" b="b"/>
                <a:pathLst>
                  <a:path w="1440" h="1440">
                    <a:moveTo>
                      <a:pt x="0" y="0"/>
                    </a:moveTo>
                    <a:cubicBezTo>
                      <a:pt x="310" y="40"/>
                      <a:pt x="620" y="80"/>
                      <a:pt x="840" y="240"/>
                    </a:cubicBezTo>
                    <a:cubicBezTo>
                      <a:pt x="1060" y="400"/>
                      <a:pt x="1220" y="760"/>
                      <a:pt x="1320" y="960"/>
                    </a:cubicBezTo>
                    <a:cubicBezTo>
                      <a:pt x="1420" y="1160"/>
                      <a:pt x="1420" y="1360"/>
                      <a:pt x="1440" y="144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flipH="1" flipV="1">
                <a:off x="2524320" y="1315800"/>
                <a:ext cx="2047680" cy="1954440"/>
              </a:xfrm>
              <a:custGeom>
                <a:avLst/>
                <a:gdLst/>
                <a:ahLst/>
                <a:rect l="l" t="t" r="r" b="b"/>
                <a:pathLst>
                  <a:path w="1440" h="1440">
                    <a:moveTo>
                      <a:pt x="0" y="0"/>
                    </a:moveTo>
                    <a:cubicBezTo>
                      <a:pt x="310" y="40"/>
                      <a:pt x="620" y="80"/>
                      <a:pt x="840" y="240"/>
                    </a:cubicBezTo>
                    <a:cubicBezTo>
                      <a:pt x="1060" y="400"/>
                      <a:pt x="1220" y="760"/>
                      <a:pt x="1320" y="960"/>
                    </a:cubicBezTo>
                    <a:cubicBezTo>
                      <a:pt x="1420" y="1160"/>
                      <a:pt x="1420" y="1360"/>
                      <a:pt x="1440" y="144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3608280" y="2457000"/>
              <a:ext cx="1566000" cy="65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cov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78480" y="3271320"/>
              <a:ext cx="1565640" cy="65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pi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38080" y="990720"/>
              <a:ext cx="1565640" cy="651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vest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137640" y="4900320"/>
              <a:ext cx="2167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739920" y="5063040"/>
              <a:ext cx="1565640" cy="651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ivest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isinvest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572000" y="3434400"/>
              <a:ext cx="602280" cy="2280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-54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4876920" y="609480"/>
            <a:ext cx="0" cy="6248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2514600" y="9907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629400" y="51814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1599840" y="5943600"/>
            <a:ext cx="297180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272680" y="5979960"/>
            <a:ext cx="124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mprov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029200" y="6324480"/>
            <a:ext cx="274320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257800" y="5791320"/>
            <a:ext cx="1843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rse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321160" y="5904000"/>
            <a:ext cx="127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Worse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8003520" y="6248520"/>
            <a:ext cx="71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06720" y="6248520"/>
            <a:ext cx="56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838080" y="228600"/>
          <a:ext cx="8305920" cy="6794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28600"/>
                    <a:ext cx="8305920" cy="679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" name=""/>
          <p:cNvSpPr/>
          <p:nvPr/>
        </p:nvSpPr>
        <p:spPr>
          <a:xfrm>
            <a:off x="7010280" y="1676520"/>
            <a:ext cx="1524240" cy="914400"/>
          </a:xfrm>
          <a:prstGeom prst="ellipse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086600" y="3048120"/>
            <a:ext cx="1447920" cy="914400"/>
          </a:xfrm>
          <a:prstGeom prst="ellipse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241760" y="2057400"/>
            <a:ext cx="119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Right s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165080" y="3429000"/>
            <a:ext cx="10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Left s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240320" y="2666880"/>
            <a:ext cx="960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POST CP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228600" y="457200"/>
            <a:ext cx="8915040" cy="6400800"/>
            <a:chOff x="228600" y="457200"/>
            <a:chExt cx="8915040" cy="6400800"/>
          </a:xfrm>
        </p:grpSpPr>
        <p:sp>
          <p:nvSpPr>
            <p:cNvPr id="79" name=""/>
            <p:cNvSpPr/>
            <p:nvPr/>
          </p:nvSpPr>
          <p:spPr>
            <a:xfrm>
              <a:off x="228600" y="5893920"/>
              <a:ext cx="8800200" cy="320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Nat Gov &amp; LGA s               &lt;NGOs&gt;                            Donors and LRRD                &lt;NGOs&gt;                    WFP, ICRC, MS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43800" y="457200"/>
              <a:ext cx="8799840" cy="320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Household Vulnerabili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43800" y="777240"/>
              <a:ext cx="8799840" cy="320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Low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      Moderate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                             High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   Extrem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43800" y="1097280"/>
              <a:ext cx="8799840" cy="3200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Household Decision-Maki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43800" y="1417680"/>
              <a:ext cx="8799840" cy="320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Maximizing Opportunities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               Minimizing Risk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28600" y="4296240"/>
              <a:ext cx="8800200" cy="3200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onor Respons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28600" y="4616640"/>
              <a:ext cx="8800200" cy="320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Development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Rehabilitation 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Mitigation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Relie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28600" y="4936680"/>
              <a:ext cx="8800200" cy="32004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Objectiv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28600" y="5257080"/>
              <a:ext cx="8800200" cy="320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Sustainable Systems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   Protect Livelihoods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Save L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28600" y="5577120"/>
              <a:ext cx="8800200" cy="32004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nformation Partner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6217560"/>
              <a:ext cx="8800200" cy="32004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udience Involv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28600" y="6537960"/>
              <a:ext cx="8800200" cy="320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Broader analysis with users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…..Higher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            … Lower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Quantifying and Targeting Relie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304920" y="1752480"/>
            <a:ext cx="8533800" cy="2514600"/>
            <a:chOff x="304920" y="1752480"/>
            <a:chExt cx="8533800" cy="2514600"/>
          </a:xfrm>
        </p:grpSpPr>
        <p:grpSp>
          <p:nvGrpSpPr>
            <p:cNvPr id="92" name=""/>
            <p:cNvGrpSpPr/>
            <p:nvPr/>
          </p:nvGrpSpPr>
          <p:grpSpPr>
            <a:xfrm>
              <a:off x="2231640" y="1926000"/>
              <a:ext cx="4679640" cy="2080800"/>
              <a:chOff x="2231640" y="1926000"/>
              <a:chExt cx="4679640" cy="2080800"/>
            </a:xfrm>
          </p:grpSpPr>
          <p:sp>
            <p:nvSpPr>
              <p:cNvPr id="93" name=""/>
              <p:cNvSpPr/>
              <p:nvPr/>
            </p:nvSpPr>
            <p:spPr>
              <a:xfrm>
                <a:off x="4571640" y="2966400"/>
                <a:ext cx="2339640" cy="1040400"/>
              </a:xfrm>
              <a:custGeom>
                <a:avLst/>
                <a:gdLst/>
                <a:ahLst/>
                <a:rect l="l" t="t" r="r" b="b"/>
                <a:pathLst>
                  <a:path w="1440" h="1440">
                    <a:moveTo>
                      <a:pt x="0" y="0"/>
                    </a:moveTo>
                    <a:cubicBezTo>
                      <a:pt x="310" y="40"/>
                      <a:pt x="620" y="80"/>
                      <a:pt x="840" y="240"/>
                    </a:cubicBezTo>
                    <a:cubicBezTo>
                      <a:pt x="1060" y="400"/>
                      <a:pt x="1220" y="760"/>
                      <a:pt x="1320" y="960"/>
                    </a:cubicBezTo>
                    <a:cubicBezTo>
                      <a:pt x="1420" y="1160"/>
                      <a:pt x="1420" y="1360"/>
                      <a:pt x="1440" y="144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flipH="1" flipV="1">
                <a:off x="2231640" y="1926000"/>
                <a:ext cx="2340000" cy="1040400"/>
              </a:xfrm>
              <a:custGeom>
                <a:avLst/>
                <a:gdLst/>
                <a:ahLst/>
                <a:rect l="l" t="t" r="r" b="b"/>
                <a:pathLst>
                  <a:path w="1440" h="1440">
                    <a:moveTo>
                      <a:pt x="0" y="0"/>
                    </a:moveTo>
                    <a:cubicBezTo>
                      <a:pt x="310" y="40"/>
                      <a:pt x="620" y="80"/>
                      <a:pt x="840" y="240"/>
                    </a:cubicBezTo>
                    <a:cubicBezTo>
                      <a:pt x="1060" y="400"/>
                      <a:pt x="1220" y="760"/>
                      <a:pt x="1320" y="960"/>
                    </a:cubicBezTo>
                    <a:cubicBezTo>
                      <a:pt x="1420" y="1160"/>
                      <a:pt x="1420" y="1360"/>
                      <a:pt x="1440" y="144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5" name=""/>
            <p:cNvSpPr/>
            <p:nvPr/>
          </p:nvSpPr>
          <p:spPr>
            <a:xfrm>
              <a:off x="3470400" y="2532960"/>
              <a:ext cx="1789560" cy="346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cov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636600" y="2966400"/>
              <a:ext cx="1789200" cy="346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pi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04920" y="1752480"/>
              <a:ext cx="1789200" cy="346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vest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361200" y="3833640"/>
              <a:ext cx="2477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49520" y="3920040"/>
              <a:ext cx="1789200" cy="346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ivest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572000" y="3053160"/>
              <a:ext cx="687960" cy="1213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-54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Arial"/>
                </a:rPr>
                <a:t>Reversibility  ?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ff3300"/>
                  </a:solidFill>
                  <a:latin typeface="Arial"/>
                </a:rPr>
                <a:t>Phase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ff3300"/>
                  </a:solidFill>
                  <a:latin typeface="Arial"/>
                </a:rPr>
                <a:t>1 or 2?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"/>
          <p:cNvSpPr/>
          <p:nvPr/>
        </p:nvSpPr>
        <p:spPr>
          <a:xfrm flipH="1" flipV="1">
            <a:off x="2209680" y="1752120"/>
            <a:ext cx="763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858000" y="3809880"/>
            <a:ext cx="76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7632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07800" y="2743200"/>
            <a:ext cx="25959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333399"/>
                </a:solidFill>
                <a:uFillTx/>
                <a:latin typeface="Arial"/>
              </a:rPr>
              <a:t>N.B. See Notes</a:t>
            </a:r>
            <a:r>
              <a:rPr b="0" lang="en-US" sz="1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Arial"/>
              </a:rPr>
              <a:t>Livelihood capit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Arial"/>
              </a:rPr>
              <a:t>7 compon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Arial"/>
              </a:rPr>
              <a:t>Bi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Arial"/>
              </a:rPr>
              <a:t>Contextual picture…improving/worsening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Arial"/>
              </a:rPr>
              <a:t>The role of the For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85800" y="0"/>
            <a:ext cx="80010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role of information in improving responses to food securit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3504960" y="640080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486400" y="640080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410440" y="3505320"/>
            <a:ext cx="3318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Arial"/>
              </a:rPr>
              <a:t>Phases    …. 3 ,            ……..  4,      ………………     5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8229600" y="38098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8610480" y="3733920"/>
            <a:ext cx="0" cy="38088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19240" y="3886200"/>
            <a:ext cx="421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Arial"/>
              </a:rPr>
              <a:t>IPC Strategic response strategies only…. post class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3580920" y="2057400"/>
            <a:ext cx="83844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648320" y="2286000"/>
            <a:ext cx="91440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719160" y="2090880"/>
            <a:ext cx="88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Which….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709880" y="2014560"/>
            <a:ext cx="80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…</a:t>
            </a: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.Way 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471280" y="3919680"/>
            <a:ext cx="7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Bias?..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533520" y="762120"/>
            <a:ext cx="8076960" cy="519588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472428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571000" y="6324480"/>
            <a:ext cx="2907000" cy="3682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and 2  Southern Sudan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55840" y="6324480"/>
            <a:ext cx="2235240" cy="3682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and 2 for Malawi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29000" y="5943600"/>
            <a:ext cx="27432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PC Phase    classificatio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602800" y="0"/>
            <a:ext cx="394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need for the Livelihoods S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……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..Contextual pi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609480" y="1143000"/>
            <a:ext cx="8305920" cy="52578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1584360" y="341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737000" y="493560"/>
            <a:ext cx="177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IPC principl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859440" y="533520"/>
            <a:ext cx="180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HEA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981080" y="838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162920" y="838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276720" y="274320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SCCSE/L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438280" y="6491160"/>
            <a:ext cx="586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GOAL: Timely, cost effective and appropriate action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505320" y="152280"/>
            <a:ext cx="26668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t (variou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essment  t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800600" y="121932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452360" y="2725560"/>
            <a:ext cx="860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e 1 and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265120" y="161136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hase classification 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1480" y="2666880"/>
            <a:ext cx="236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lth, water …see IPC manu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597280" y="4724280"/>
            <a:ext cx="321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Comic Sans MS"/>
              </a:rPr>
              <a:t>The need for the contextu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Comic Sans MS"/>
              </a:rPr>
              <a:t>                                  </a:t>
            </a:r>
            <a:r>
              <a:rPr b="0" lang="en-US" sz="1800" spc="-1" strike="noStrike">
                <a:solidFill>
                  <a:srgbClr val="ff3300"/>
                </a:solidFill>
                <a:latin typeface="Comic Sans MS"/>
              </a:rPr>
              <a:t>pi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7772400" y="3352680"/>
            <a:ext cx="0" cy="137160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6781680" y="5334120"/>
            <a:ext cx="914400" cy="38088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259040" y="5486400"/>
            <a:ext cx="189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Comic Sans MS"/>
              </a:rPr>
              <a:t>…</a:t>
            </a:r>
            <a:r>
              <a:rPr b="0" lang="en-US" sz="1800" spc="-1" strike="noStrike">
                <a:solidFill>
                  <a:srgbClr val="ff3300"/>
                </a:solidFill>
                <a:latin typeface="Comic Sans MS"/>
              </a:rPr>
              <a:t>and predi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Comic Sans MS"/>
              </a:rPr>
              <a:t>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52280" y="4267080"/>
            <a:ext cx="2743200" cy="2057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Comic Sans MS"/>
              </a:rPr>
              <a:t>IPC&lt; &gt;H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Comic Sans MS"/>
              </a:rPr>
              <a:t>Compliment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3300"/>
                </a:solidFill>
                <a:uFillTx/>
                <a:latin typeface="Comic Sans MS"/>
              </a:rPr>
              <a:t>principles</a:t>
            </a:r>
            <a:r>
              <a:rPr b="0" lang="en-US" sz="1800" spc="-1" strike="noStrike">
                <a:solidFill>
                  <a:srgbClr val="ff3300"/>
                </a:solidFill>
                <a:latin typeface="Comic Sans MS"/>
              </a:rPr>
              <a:t> that prom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ff3300"/>
                </a:solidFill>
                <a:latin typeface="Comic Sans MS"/>
              </a:rPr>
              <a:t>better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ff3300"/>
                </a:solidFill>
                <a:latin typeface="Comic Sans MS"/>
              </a:rPr>
              <a:t>during analysi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304560" y="380880"/>
            <a:ext cx="8458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thern Sudan 20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ittle evidence that the present response is linked to analysis of any livelihoods information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turnee driven response….as opposed to CDR/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litical impera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nor suppor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gree of media influ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sier to access emergency fun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etition for reven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09:24:47Z</dcterms:created>
  <dc:creator>bsharp</dc:creator>
  <dc:description/>
  <dc:language>en-US</dc:language>
  <cp:lastModifiedBy>user</cp:lastModifiedBy>
  <dcterms:modified xsi:type="dcterms:W3CDTF">2007-03-15T15:36:08Z</dcterms:modified>
  <cp:revision>38</cp:revision>
  <dc:subject/>
  <dc:title>Slide 1</dc:title>
</cp:coreProperties>
</file>